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EAF-3AA3-47D3-A936-E8B49B6B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392-652E-4D81-AB8D-47774EB2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718-3F5C-4A1B-A2C5-955A0685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E76-1D9A-41F2-8D7B-97C61A0E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8D2A-F78B-4117-BF6B-E8058C4A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69C7-E485-4E67-8F62-4BB0A9E9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F674-A59B-4D53-B0C8-0167BE1F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9239-D215-4D9A-BA4D-7501AEFB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CB27-F110-4697-BC34-8F6C0802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925D-554A-42F3-89D9-6AEDEE76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5B80-A022-4D87-9403-1C6CE9D9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EEB-F491-4815-9754-727F041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D76E-0E22-4109-8C48-B28D27FC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04A2-9C20-4B45-AFBC-9B8944B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29BA-1C3A-4F78-AAAC-1A622D5A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1243-0F51-487C-A8FE-73BFEC3F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8389-2E20-4C17-89F4-F4917D5A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F07-9C00-489D-B762-2073BCD9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F47-6E61-4384-8EF0-ECCA8F96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D87-3D4A-4002-A79E-0522CBBB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4E4-2BD0-42F2-9293-2CF3ABAD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56A-3FEF-4336-92C8-3DA2C003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7D2-FFEC-432D-AEA7-C6A7C698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CC1-F46F-4FC4-8CE2-0B13CFF2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BE36-8286-413A-B77E-3C6E992DE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E7E7-8D9F-4925-8BD3-B498FCFCF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28600" y="152280"/>
            <a:ext cx="4800600" cy="520560"/>
          </a:xfrm>
          <a:prstGeom prst="rect">
            <a:avLst/>
          </a:prstGeom>
          <a:solidFill>
            <a:srgbClr val="008ae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lringer 5/14/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04920" y="685800"/>
            <a:ext cx="518148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the following questions in the first five minutes of class.  You may use your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the triangle tra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duct / good was the main reason plantation owners needed slaves during the start of coloniz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iddle Pass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ere the first groups of slaves in the Americ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2" descr="slaves on ship"/>
          <p:cNvPicPr/>
          <p:nvPr/>
        </p:nvPicPr>
        <p:blipFill>
          <a:blip r:embed="rId1"/>
          <a:stretch/>
        </p:blipFill>
        <p:spPr>
          <a:xfrm>
            <a:off x="4737240" y="146160"/>
            <a:ext cx="4278240" cy="2408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indentured servant"/>
          <p:cNvPicPr/>
          <p:nvPr/>
        </p:nvPicPr>
        <p:blipFill>
          <a:blip r:embed="rId2"/>
          <a:stretch/>
        </p:blipFill>
        <p:spPr>
          <a:xfrm>
            <a:off x="6095880" y="2666880"/>
            <a:ext cx="2638440" cy="3810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1:49:06Z</dcterms:created>
  <dc:creator>admin</dc:creator>
  <dc:description/>
  <dc:language>en-US</dc:language>
  <cp:lastModifiedBy>admin</cp:lastModifiedBy>
  <dcterms:modified xsi:type="dcterms:W3CDTF">2012-05-14T12:07:21Z</dcterms:modified>
  <cp:revision>8</cp:revision>
  <dc:subject/>
  <dc:title>Slide 1</dc:title>
</cp:coreProperties>
</file>